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936-04FC-49E4-8E64-26664833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AF1A-AD3B-4339-B501-4435FB06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4638-F2EC-4D5A-BAD1-1840373E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6E1-D3BB-4FA7-85F0-5900D812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C10-9F47-4DCD-8291-F16DAA02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917-A70B-4191-A45F-AEEFBA5A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14D-FE2A-44F1-8FEB-8C433186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F95-FA77-4330-9C3A-BE359384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C0B-43DA-43EA-84AF-EDADAC4B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520-1351-4C8F-965C-22E0A931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18C-AA00-4E94-8E4F-252673F4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17F-9083-405F-B5CC-C1B58BDE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4A4E-5C61-46FB-921C-7C2983E75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egents.state.oh.us/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www.regents.state.oh.us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70160" y="0"/>
          <a:ext cx="4603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0160" y="0"/>
                    <a:ext cx="4603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6392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38480" y="4876920"/>
            <a:ext cx="990720" cy="228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523880"/>
            <a:ext cx="3124080" cy="304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1600200"/>
            <a:ext cx="609480" cy="228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228600"/>
            <a:ext cx="9143640" cy="6324120"/>
            <a:chOff x="0" y="228600"/>
            <a:chExt cx="9143640" cy="632412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228600"/>
              <a:ext cx="9143640" cy="63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063440" y="1952280"/>
              <a:ext cx="1631880" cy="1067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0" y="2743200"/>
            <a:ext cx="3047760" cy="1904760"/>
            <a:chOff x="0" y="2743200"/>
            <a:chExt cx="3047760" cy="1904760"/>
          </a:xfrm>
        </p:grpSpPr>
        <p:sp>
          <p:nvSpPr>
            <p:cNvPr id="67" name=""/>
            <p:cNvSpPr/>
            <p:nvPr/>
          </p:nvSpPr>
          <p:spPr>
            <a:xfrm flipV="1">
              <a:off x="2344680" y="2743200"/>
              <a:ext cx="703080" cy="779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3349440"/>
              <a:ext cx="3047760" cy="1298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otential NEALP candid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is the data input s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egents.state.oh.us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-228600" y="-304920"/>
            <a:ext cx="9369360" cy="7696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71600" y="2286000"/>
            <a:ext cx="1523880" cy="304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egents.state.oh.us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28600" y="-304920"/>
            <a:ext cx="9369360" cy="7772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5410080" y="3428280"/>
            <a:ext cx="1143000" cy="228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you submit dat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 the data input s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228600" y="-304920"/>
            <a:ext cx="936936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533520"/>
            <a:ext cx="9140760" cy="7772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724280" y="4038480"/>
            <a:ext cx="609840" cy="1526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228600" y="-685800"/>
            <a:ext cx="9372600" cy="7924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403880" y="3124080"/>
            <a:ext cx="1523880" cy="441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228600" y="-304920"/>
            <a:ext cx="93726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62120" y="685800"/>
          <a:ext cx="7619760" cy="38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85800"/>
                    <a:ext cx="761976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152280" y="-533520"/>
            <a:ext cx="9293040" cy="7848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5181480"/>
            <a:ext cx="9144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225360" y="-380880"/>
            <a:ext cx="9369360" cy="7848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733920" y="4114800"/>
            <a:ext cx="83808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809880"/>
            <a:ext cx="243828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4419720"/>
            <a:ext cx="2743200" cy="1067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ke sure that you select these boxes.  Your user privileges will define how much  you see on this pag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4800600"/>
            <a:ext cx="16002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124080" y="4191120"/>
            <a:ext cx="60984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276720" y="3885840"/>
            <a:ext cx="144756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228600" y="-685800"/>
            <a:ext cx="9369360" cy="7848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495680" y="3505320"/>
            <a:ext cx="259092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962520"/>
            <a:ext cx="209052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x has now been selected (highlighted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666880" y="3657600"/>
            <a:ext cx="20574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369360" cy="830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05920" y="2438280"/>
            <a:ext cx="380880" cy="3276720"/>
          </a:xfrm>
          <a:prstGeom prst="downArrow">
            <a:avLst>
              <a:gd name="adj1" fmla="val 50000"/>
              <a:gd name="adj2" fmla="val 21507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380880" y="-380880"/>
            <a:ext cx="9521640" cy="8001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715000" y="1447920"/>
            <a:ext cx="3200400" cy="4485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links above give an explanation of the Data Entry Portal Process.  A Data Entry Portal Tutorial is also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me input values will be defined by your user privileges.  If clearly inaccurate data is entered into a field, a message will inform the user of the probl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example: If a user enters a student identifier containing alphabetic characters and then indicates in the “Institution Assigned Identifier Switch” by selecting “N” that the value is a Social Security Number, an error message will be return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ing Data Already Loaded to the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ing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that you have th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e relationships with other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5486400" y="3276000"/>
            <a:ext cx="1447920" cy="228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90920" y="4343400"/>
            <a:ext cx="2590560" cy="228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372600" cy="8077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2819520"/>
            <a:ext cx="1752480" cy="304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20120" y="2438280"/>
            <a:ext cx="380880" cy="3276720"/>
          </a:xfrm>
          <a:prstGeom prst="downArrow">
            <a:avLst>
              <a:gd name="adj1" fmla="val 50000"/>
              <a:gd name="adj2" fmla="val 21507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372600" cy="792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5562720" y="4571280"/>
            <a:ext cx="990360" cy="228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4267080" y="2971080"/>
            <a:ext cx="1219320" cy="228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274680"/>
            <a:ext cx="89154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705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3429000" y="3733920"/>
            <a:ext cx="1143000" cy="304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534520" y="1905120"/>
            <a:ext cx="380880" cy="3276360"/>
          </a:xfrm>
          <a:prstGeom prst="downArrow">
            <a:avLst>
              <a:gd name="adj1" fmla="val 50000"/>
              <a:gd name="adj2" fmla="val 215052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16:57:32Z</dcterms:created>
  <dc:creator>Angela Ortiz</dc:creator>
  <dc:description/>
  <dc:language>en-US</dc:language>
  <cp:lastModifiedBy>Karen Brockway</cp:lastModifiedBy>
  <dcterms:modified xsi:type="dcterms:W3CDTF">2006-07-10T19:27:43Z</dcterms:modified>
  <cp:revision>23</cp:revision>
  <dc:subject/>
  <dc:title>NEALP Verification Process</dc:title>
</cp:coreProperties>
</file>